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5.png" ContentType="image/png"/>
  <Override PartName="/ppt/media/image10.jpeg" ContentType="image/jpeg"/>
  <Override PartName="/ppt/media/image11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FA8B-BA85-404C-B74B-70A40FDA80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D3A1-1A8B-4A3C-A14B-D8D270AC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670EFD-5107-469A-BB03-C5972711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C74163-EB17-4D77-9C71-2DD5BF72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C315AB-E933-4892-B3B0-3BB72954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BBE706-6BD9-4283-86CA-A039CF73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D485C7-FDF5-491F-90EE-EF0BE63C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4D6292-D14B-4A22-A45D-0CB31C9A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6BB36-073B-4A44-9271-5A8DCDB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E39B65-C690-4EE9-B52F-B477B5FF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2B3FA8-FFF1-445C-90B1-5A70B59A19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AB804-9056-4A67-BCB2-45D73D5FE9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41D1-52D6-49CC-92A7-503578C3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1A48A-236E-42E7-BCDA-05653A87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6C750-A19A-4771-98D5-F8F8BD8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D1684-A35F-4749-9D3B-AA478A1B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88E57-A274-4A7B-8C74-15EE55DD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3592E-F1EB-4781-8A86-61D0BE92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F3B03-C43E-43E6-9EC0-DAEE4B8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76CC8-DE32-4E79-842E-7C495AD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8621-7EF2-4F10-81AB-EBE9A9F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64D7C-1024-40D5-8E69-C799F16B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CE292-C9A7-4516-9451-FC5E2205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25EF8-7BB4-4D42-BEE0-3201F5597F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BA8F2-4F97-4F2C-B847-C7086689A5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2C8346-403F-43EB-835C-F4FA74884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31C16-BE76-43F1-9A8E-35AE58C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25D93A-CC27-4155-B37B-802E2202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A47BF-CFB8-4C99-B600-ED183011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22A465-B6F2-453B-A685-1F20AFB9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768996-BB5A-4BF2-BE1C-DDF593F8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3FFFF6-EC2D-4520-9A50-82F58B43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FF9126-EF9B-4711-ABDC-D3FF14FA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E33140-5350-4607-A7ED-4BB21DA4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DCA9-74F3-4E52-A07A-1AD9B389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3E7732-990C-4E15-B437-A7E6610F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91D58-25A4-4269-9DE4-5A1A0691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71C05-FAA8-4D64-B258-34A2469467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E4BF3-6F24-4E2C-BFCC-68836764FD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088FEC-849A-49F8-B394-25045806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A2E41-8270-4717-8225-296500C1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101F7-887D-4BD7-BD87-4B8E864D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ABC31-859A-4809-94A9-3A305CFF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68DC7-8794-4B83-85DC-8F584BE8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46E19-BAF6-47A9-A70D-8C983C0C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9A965-94A3-48C9-95A9-1ED22B9E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5F560F-F461-41BD-AF4A-D2BE3F32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855387-26EC-4EE1-B9FA-C1FB9D55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54C72-44D1-4798-A820-F8F7C5B8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46A14-1EF4-4AB9-9414-70453578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6D288-9845-4351-888A-A6522B4653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B340-A869-4ACC-AAB0-109C06DEBF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E2B1-85E5-4B10-8B5F-2520351D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46D27-28DA-44DB-B71F-7042388F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F37C1-DADE-4372-AA8C-7735BC88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6E7FD-AD23-45C1-865E-8A521196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5ED18-E864-474B-9485-5B92261F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F2327-CFDA-43C5-B863-E669393C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C7242-E16C-43F5-804A-171EEA02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42E9F-612A-45B4-8C3B-4D06970B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C6B94-03F6-4E70-9F8E-0992551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E5016-FE54-4221-B0B1-F3E894B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9C967-95EA-45E2-9BD6-5B096FAF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DAF06-2425-43BC-8BCA-6ECAE5027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B214C-21E2-4B67-8C95-B49AD9E2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B2230-A5B6-40A1-B37E-F0D1402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EF5F1-1CE3-4DC3-B494-9BC757E3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A266A-5596-4305-9372-EA3094E5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8A104-0FF1-4D8A-87CC-7F5ACC0F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2D1D3-0F46-4099-BDE7-D738303F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3932E-D403-4213-97AE-BB9FE49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928E3-DFB3-42F1-9938-6DA65AC7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609BB-D82F-4B1E-9F8F-32CCE4D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C41CF-1167-45BD-AA85-82F5242B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6DEE0-3B8F-4B55-8F5E-93A59F8A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277F1-8B3B-4A2D-BD37-F6F2DB25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A5373-B3D4-4040-B4D5-938DE325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D66DE-B5EC-44D3-BAF9-83EA733A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8F699-1492-4801-84AF-2F085045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1776F-123A-4989-BB8B-E94EFF4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02658-0593-4E23-96DD-20DEAD04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74B02-19F6-4D15-BBA1-18A8A815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FE801-44EB-44AB-8F6C-C5181DDB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DC74A-949A-4979-B89F-5391F974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896F-C09F-4A42-B9CE-67757D2D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5515F-C1C7-487F-8C4A-BD5D9F90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A457F-DE4C-4B9D-A76C-C89A945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8B531-DE28-4909-BC6C-B8EC17F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0F346-EB07-4E96-A060-AEBED4D1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EFB65-9FB0-4734-A48D-FAB8033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6D3B-E675-44D1-9D8D-600D38DC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2DE0D-01D3-4BC0-B55A-0A1DB821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838B7-5CBB-4B5C-8247-3F6F6430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03B2A-9166-42A2-B4C2-BCCED20E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B1FFC-F040-4AAC-8A16-9B1D4793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87E63-4D3D-4E29-98BC-83ACED8E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A8A96-9AC9-486A-9EB8-836715F6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77619-E5D0-4842-8989-046F001C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E4C06-BA1B-4BC2-B4A7-139A14E6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11CE0-2D66-4100-A4B2-BD58F80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9B102-3A4B-4820-9E1B-7C6EAA8C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17421-E4DC-44B7-A56F-A5FE28B0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2DB38-6731-4FB6-AB34-8723B802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48AFB-F82B-4B73-9DBD-8FA7650B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E3DEF-D96B-46D3-85CD-E72CB21F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78749C-684A-4BCC-82D3-0A269FB7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6A9C8-D584-454F-8FF2-13457D79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B30D7-E58F-4D14-A272-29EE4D2F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4849C-5F6B-4EAA-9123-4A97775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B5EDE-8D00-47FD-9903-8CD2D8AD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57D48-482C-4F1F-8229-1296B3D5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CD33-23CD-40BF-AC76-AD4D338F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3F94B-7441-41B9-B298-0DBE70E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23443-CBAE-4FFE-AE77-57A946B2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2B48F-9FC4-44D9-89CA-3D88D06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4B48F-F549-4709-8FD4-4F8D6700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0B954-4D65-43F7-BA9E-73BC09C4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8EDB6-0313-47D0-AE58-EC71FCBB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FF5C7-C971-4C5F-96B4-9EC81D76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33C527-75F6-40E7-8918-4B9192F8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E8180A-E987-426E-910A-96C0459E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DCC00-B836-4708-8575-36D2F281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B2D314-9BCF-4E51-81A2-6A6C9C3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61D31-1957-4252-AEA5-38404310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81948-FA24-4047-AEFF-63F2BE9D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1350F-D32C-42B4-AC15-C5B1CB80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6D2BC-CF71-41DA-986C-EC9EEB1C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467A2-D3D6-4754-B817-3018D679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0AC95-E3D1-47FC-AB0F-D01618C8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48FDEC-7DD0-49CD-8D24-9D9D8ACB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7BBD7-3812-464C-996B-047E590E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8CB0B-5F8A-4C54-8069-3845C6E36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0B909-211F-4089-86EB-7CD2BEC0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77A96-5749-478E-A36D-3A943D35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B962-F922-4B1E-8047-FDB57DAA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D6EF47-86E0-491B-8296-DCF10403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40FE8-A3FF-4DE9-B48B-9C4D79F9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7A9ED-A25F-4109-80B3-4E51B19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EDD2A-331B-4304-BAB1-7B70B1BF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351C1-70E4-40BB-98A6-88F8C0A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AEA51-F919-4503-99DC-8A5BC389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A62A5-A427-4B57-926C-BE4EDC92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E7AF39-E25E-4786-BB16-AAD5265B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69E5F-9269-4D93-A8C7-7E97A4F4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6561DB-C9CB-4D6F-9275-9590C223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6743B-4CA5-428B-ACDE-C85CD3E3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A4B4F3-16A1-4C61-A166-53FDA7A4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1BC77-AE34-4A08-9A3D-5ECFCA09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FF57A1-3BED-4F8A-807A-ABCFC2D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60B6EF-F597-4B19-B8EA-A2ACD073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6B835-403C-4031-92D7-AB0D6AFD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CDB90C-4355-4D25-A59C-D1A6E4F1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DDBE61-15A8-470C-BE78-C51F8A9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CF164-5B82-4576-9D1A-68ED8078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551F0-ADB6-4DE3-860A-E928DE3E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E0738E-796A-4E36-AE0F-74B1B705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E6CA0-B7D2-46AC-A449-6CCEF23A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5BBB25-F912-47F2-B6C3-BA7EBF58F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F65590-9DA9-4FFB-A15C-CA23E67F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A4ADD-DB32-4A0F-A59B-4B935888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BD9CF-10D8-4D46-9B7B-F7EBC59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1FF67-4B7D-4281-9216-219565F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EAEDF-FBA6-488B-BA42-86C06F5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89D18-8D50-4C0B-9367-2F14E068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599EB1-AABB-4696-8807-FEF613B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C09E2-4BF6-40E6-B403-242F2D6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24862-BD2B-4F7C-AD75-92C28833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7A1B1A-9BC8-4369-B539-405CDEBB7D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7167B-A04E-4663-ACF8-CB11F65D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889D3-D3CF-4C3B-B7C6-989933124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CB8572-DB6A-4659-A66B-052B3AD3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6DD3E-75AA-4E87-84AD-B3385AD4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992193-95F0-43E6-8C68-BE13555A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D3D67-2EC1-4831-B2DB-4DE7A994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211F06-316A-41D6-963D-7C048627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8A1ED-01E4-4F28-A159-3B328BD2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F1E79C-B217-41C9-91DE-08C12DFD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3CF5EC-7174-484A-9141-DDC862FE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EE129-49CA-45B4-9555-CD1A914F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B73BE-CBF6-4828-BE00-345B0D0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D2BA96-9EBE-49C9-8D2A-A8C1A6FB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CCE34-BDA2-425F-9506-ADDE7BE8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3EAA2-EA57-4870-A2AF-C5B0A6FB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F6D036-4209-4782-B3C6-85C654E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13A9A-4640-4586-91EC-ED300564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F6EE84-7316-43AF-9DC1-6FDC19A1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B65DA8-476C-4112-A496-D16C0327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1B04EC-9D9F-47B4-B67E-8CD6B89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ED81BB-E022-481D-B2EB-DFA0B37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FE351-52E2-48E4-B6D3-18F587FE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7B1F27-FB5A-4060-837A-F9221551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8980D-D302-4824-9764-9B16384C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3A01B-04D3-41D0-80DF-F7AD1D7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09525-0FB9-44ED-84D9-69C6462F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E6AC0-B451-49C7-99EA-B0675560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E5FFBF-D436-4143-BCCC-391E9A3F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054ECC-5380-4ACB-A872-6D7ECBB3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E4629-10A7-45AD-92E8-58A543E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77753-012A-4A90-B5B5-0369690A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72BA5-8200-49DD-AB94-2944B739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147C6E-3888-4380-AF85-B94877C0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AA819A-BC7A-48C4-A3CC-5C2B5D1A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C66A8-615B-4A11-9F86-18E1EB17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490618-CE01-4935-8937-9D073961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123C7-38CE-4724-B5FF-80ED3945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C7AC27-9ED0-4A7B-83C7-2FBC9D98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999915-F101-4E06-A16F-BA21E69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4311D-7CC5-4D42-B36D-B843EE3C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BA35F-4E1A-48F5-A79F-FA1CCE47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E43007-6A2C-4D68-B31A-29EE7FE5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988162-D1C6-4170-96B1-C665B104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34FC-EF50-4837-8B67-C0F9736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7CCDF4-67B9-4087-BE77-9880FB7D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372559-6254-47DA-ACBE-C885F96B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4878C5-70F3-4606-8A9B-81922643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859C9E-2842-4C0B-B908-4A6D4319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69746-C61F-4C2C-87E7-5B37B565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A9231A-A1D6-4D7C-8A49-9DB988E5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1AD546-F60F-4762-B37F-BD382663F2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6CD5-4123-4B5B-9BB3-C96CF7CCE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B7F0-2B7F-4AA0-A29A-451FFBF7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98BC-987C-4FDD-919B-F2F96B47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64D8-D8D2-47E1-8354-916CF568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77D37-7AA3-457E-B35B-1C1594DD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E6DE-01EB-4BF1-AF6C-59304970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C5AE9-2D2F-4993-A334-329922FAB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134E6-865B-4156-AB50-7D0D1CC0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EFF8-BD24-4410-8C3A-7FC36BB9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84E1-F880-45CA-8157-5C8B171F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9CF7-F048-4E16-9775-E3B84366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63CE5-6834-43F3-8420-F86D3E4A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EC041-E5C8-4B86-9F38-E74678AD88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2E76A-F562-4EA7-9ABD-54948FCE3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7E95-70B8-457D-87C2-A6290523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8C3B5-9750-4568-85A8-9F49C116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AE03D-7590-4960-A1A2-63235C5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7856B4-2B4E-4C0F-8DA8-0C4113D1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6208C6-AA06-4117-A79B-B9E87BD4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508C0-19AF-4B46-9F7F-0BFB6E66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8031D-131D-4800-B23A-3D0D0E81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A3B475-988B-4C1B-B19A-08E44B5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7F35E-EFFA-474A-87C0-75B68A35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4C44E-F880-4D3C-9709-808C8E00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78783A-CF1C-408E-BF4D-38CE350F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675B-087E-4415-BFA4-10D30038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A372F1-5FC2-4783-A9BF-0A929CBC7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D9133-C30C-466D-BD12-2FC4F7D94B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25BB97-0CAB-44EA-B69E-F702C45D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B54B7A-91B2-4EA5-94E8-D148375F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A386C1-3800-40E0-80AF-EC97409A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E0E9C-2898-42E6-A45F-09E05C98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5DC6C0-0186-4C18-A394-3952DEA8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160D2B-3E34-4709-9B4F-1C452A98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69A427-6EE6-4789-A2E8-228C6C6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A43C16-85B0-4188-A101-7BD9343C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9858F-2AAA-4BEA-9483-8D785CCB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5BE78-7FCB-4C3F-94AF-AB018EB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4F99B7-2C62-4678-97D5-1027B778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00818C-1739-49F4-B5DC-4B0C5D8115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1BB9F-71F3-4DF5-996E-F334938FFF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625A9-58EC-4695-B70E-A552D59A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EDE20-FA11-49FF-9A81-79CEB3CE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6C3B8-E478-4CA1-A85B-462206D6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71C6A-E7C2-4069-8522-90236E16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465E1-BB84-4C8B-9EA1-75BD657C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AC6B4-34DF-4636-B0DB-97F8656C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2BCF-1CFD-4949-88D5-5E2FBFE7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C3EE8-5300-459E-B6EF-A9F1C8A4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84768-20DC-4CCC-AD66-A00F5B43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BEBAC-C8E1-454F-AB5D-E5FC6B15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9EFE4-2BC3-488F-AE9F-9D7F7A60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29F2-ABE1-4EA7-B1CC-F3ACBB3EFD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6E583-4989-4AED-921F-84C84130DE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59503-025B-4F08-8AA0-239C4704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BB87D5-F5AE-4280-9CE7-0C3097AD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AF730-FE9E-46A9-AF6D-10B38A7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10079-DD94-484D-BD89-C348DD40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499A8-D40D-48BF-BC3B-6DCB80DE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6A5A5-6A8B-4468-B7E3-2FD5A655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BAB37-A2AB-43F4-A65A-A7ACA28D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9BD80-AC7D-45FA-B074-2DFE69FF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A60B1-21FA-489C-B1D0-38B8503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065F8-EF23-4790-ADEF-4E4A7E12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5A9FA-7FB5-41C1-8A13-F17BDF4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63AD1-AA72-4048-9746-FC00D0EDE5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F4B2F-BF42-401D-B90C-92E51D1B6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51139C-6E3B-4939-89B2-A291C798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0642A2-AC41-46C6-8180-7BF5FB2E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4268-3449-4AC6-A6A5-3804E380E5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5B4F-F752-4C33-A88A-BE430D1C44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55D1-DF42-4EBC-86D9-29E504D552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66C8-78E7-4F7B-B770-FE1272B065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F1F2-2276-4CE8-B3AF-19D8830175A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1E71-3E40-4EF0-B140-7262E71716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9E2E-1B87-40F6-9332-9170402227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746B-A247-4169-90B1-1E401601812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6EF-364B-4C9B-B112-B06F72BE2F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764C-3A0E-442B-9C33-2BA7A5DA9B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CE46-15AC-4B33-A4B5-8A3CF33338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8FCA-7EB3-4B77-AD2F-6ABC7F8A82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E4CD-D5E1-4533-9EA5-0E38889588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4445-EC88-437E-BFC8-40107328F3D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1148-2086-4CA2-B1BF-03E4D45CEAD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4E17-4AD8-4046-9F9C-CD3E0C327AC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4703-3909-4E51-B683-0CE8BD08072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6CC-CA45-4ADD-9423-764FB6D0E6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4972-D70A-4CD8-9DE9-C540EDA67FC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D905-79F3-40DC-9442-4221591E54C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2B94-4685-4121-BE20-9E1B565CBD9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76C9-0335-42FF-8C9D-9ED94ECC57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430-6181-4F25-8A85-4CBB1057B7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ED13-2D1E-455D-82D2-FD9AB6A7F5E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271600" y="268920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条 形 统 计 图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3863880" cy="360"/>
            <a:chOff x="2284560" y="2448000"/>
            <a:chExt cx="3863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3863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386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100160" y="174456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形统计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 Box 3"/>
          <p:cNvSpPr/>
          <p:nvPr/>
        </p:nvSpPr>
        <p:spPr>
          <a:xfrm>
            <a:off x="3148200" y="1125360"/>
            <a:ext cx="2431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下面是四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班同学最喜欢的一种早餐（不包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主食）统计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0" name="Picture 4" descr="97"/>
          <p:cNvPicPr/>
          <p:nvPr/>
        </p:nvPicPr>
        <p:blipFill>
          <a:blip r:embed="rId8"/>
          <a:stretch/>
        </p:blipFill>
        <p:spPr>
          <a:xfrm>
            <a:off x="826920" y="2276640"/>
            <a:ext cx="7056720" cy="1290600"/>
          </a:xfrm>
          <a:prstGeom prst="rect">
            <a:avLst/>
          </a:prstGeom>
          <a:ln w="0">
            <a:noFill/>
          </a:ln>
        </p:spPr>
      </p:pic>
      <p:sp>
        <p:nvSpPr>
          <p:cNvPr id="1011" name="Text Box 5"/>
          <p:cNvSpPr/>
          <p:nvPr/>
        </p:nvSpPr>
        <p:spPr>
          <a:xfrm>
            <a:off x="733320" y="3943440"/>
            <a:ext cx="748188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从统计表里你得到了什么信息？你能用条形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表示出来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3"/>
          <p:cNvSpPr/>
          <p:nvPr/>
        </p:nvSpPr>
        <p:spPr>
          <a:xfrm>
            <a:off x="428760" y="14292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创设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1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4" name="Text Box 2"/>
          <p:cNvSpPr/>
          <p:nvPr/>
        </p:nvSpPr>
        <p:spPr>
          <a:xfrm>
            <a:off x="4154760" y="692280"/>
            <a:ext cx="11498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下面是两种条形图，请你选择一个，并把统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结果表示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3" descr="98"/>
          <p:cNvPicPr/>
          <p:nvPr/>
        </p:nvPicPr>
        <p:blipFill>
          <a:blip r:embed="rId8"/>
          <a:stretch/>
        </p:blipFill>
        <p:spPr>
          <a:xfrm>
            <a:off x="1332000" y="1844640"/>
            <a:ext cx="6351480" cy="4410000"/>
          </a:xfrm>
          <a:prstGeom prst="rect">
            <a:avLst/>
          </a:prstGeom>
          <a:ln w="0">
            <a:noFill/>
          </a:ln>
        </p:spPr>
      </p:pic>
      <p:grpSp>
        <p:nvGrpSpPr>
          <p:cNvPr id="1026" name="Group 4"/>
          <p:cNvGrpSpPr/>
          <p:nvPr/>
        </p:nvGrpSpPr>
        <p:grpSpPr>
          <a:xfrm>
            <a:off x="1863360" y="2031840"/>
            <a:ext cx="1714320" cy="4040280"/>
            <a:chOff x="1863360" y="2031840"/>
            <a:chExt cx="1714320" cy="4040280"/>
          </a:xfrm>
        </p:grpSpPr>
        <p:sp>
          <p:nvSpPr>
            <p:cNvPr id="1027" name="Rectangle 5"/>
            <p:cNvSpPr/>
            <p:nvPr/>
          </p:nvSpPr>
          <p:spPr>
            <a:xfrm flipH="1" flipV="1">
              <a:off x="1863000" y="5064840"/>
              <a:ext cx="341640" cy="100728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"/>
            <p:cNvSpPr/>
            <p:nvPr/>
          </p:nvSpPr>
          <p:spPr>
            <a:xfrm flipH="1" flipV="1">
              <a:off x="2549520" y="4053240"/>
              <a:ext cx="341640" cy="201492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7"/>
            <p:cNvSpPr/>
            <p:nvPr/>
          </p:nvSpPr>
          <p:spPr>
            <a:xfrm flipH="1" flipV="1">
              <a:off x="3235680" y="2031840"/>
              <a:ext cx="341640" cy="403704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8"/>
          <p:cNvGrpSpPr/>
          <p:nvPr/>
        </p:nvGrpSpPr>
        <p:grpSpPr>
          <a:xfrm>
            <a:off x="5447880" y="4054320"/>
            <a:ext cx="1714320" cy="2017800"/>
            <a:chOff x="5447880" y="4054320"/>
            <a:chExt cx="1714320" cy="2017800"/>
          </a:xfrm>
        </p:grpSpPr>
        <p:sp>
          <p:nvSpPr>
            <p:cNvPr id="1031" name="Rectangle 9"/>
            <p:cNvSpPr/>
            <p:nvPr/>
          </p:nvSpPr>
          <p:spPr>
            <a:xfrm flipH="1" flipV="1">
              <a:off x="5447520" y="5568840"/>
              <a:ext cx="341640" cy="50328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0"/>
            <p:cNvSpPr/>
            <p:nvPr/>
          </p:nvSpPr>
          <p:spPr>
            <a:xfrm flipH="1" flipV="1">
              <a:off x="6134040" y="5064480"/>
              <a:ext cx="341640" cy="100728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1"/>
            <p:cNvSpPr/>
            <p:nvPr/>
          </p:nvSpPr>
          <p:spPr>
            <a:xfrm flipH="1" flipV="1">
              <a:off x="6820200" y="4054320"/>
              <a:ext cx="341640" cy="201456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Box 3"/>
          <p:cNvSpPr/>
          <p:nvPr/>
        </p:nvSpPr>
        <p:spPr>
          <a:xfrm>
            <a:off x="384120" y="115920"/>
            <a:ext cx="20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 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八边形 7"/>
          <p:cNvSpPr/>
          <p:nvPr/>
        </p:nvSpPr>
        <p:spPr>
          <a:xfrm>
            <a:off x="5284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Text Box 2"/>
          <p:cNvSpPr/>
          <p:nvPr/>
        </p:nvSpPr>
        <p:spPr>
          <a:xfrm>
            <a:off x="1974240" y="584280"/>
            <a:ext cx="527184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两个图形的每格分别代表几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最喜欢（            ）的人数最多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你认为用哪个图表示这里的数据比较合适？为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如果最喜欢牛奶的是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人，在右图中怎样表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Box 3"/>
          <p:cNvSpPr/>
          <p:nvPr/>
        </p:nvSpPr>
        <p:spPr>
          <a:xfrm>
            <a:off x="1428840" y="1285920"/>
            <a:ext cx="6281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左图每格代表１人，右图每格代表２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Box 3"/>
          <p:cNvSpPr/>
          <p:nvPr/>
        </p:nvSpPr>
        <p:spPr>
          <a:xfrm>
            <a:off x="2857680" y="209700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3"/>
          <p:cNvSpPr/>
          <p:nvPr/>
        </p:nvSpPr>
        <p:spPr>
          <a:xfrm>
            <a:off x="1214280" y="3321000"/>
            <a:ext cx="7188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选用右边的统计图表示比较合适，因为最喜欢粥的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数比较多，用一格表示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人，作出的统计图会很高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Box 3"/>
          <p:cNvSpPr/>
          <p:nvPr/>
        </p:nvSpPr>
        <p:spPr>
          <a:xfrm>
            <a:off x="1214280" y="4705200"/>
            <a:ext cx="500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右图纵轴中没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这个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量，而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中间，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示方法就是找出纵轴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的位置就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组合 1"/>
          <p:cNvGrpSpPr/>
          <p:nvPr/>
        </p:nvGrpSpPr>
        <p:grpSpPr>
          <a:xfrm>
            <a:off x="5000760" y="4857840"/>
            <a:ext cx="3544920" cy="1320840"/>
            <a:chOff x="5000760" y="4857840"/>
            <a:chExt cx="3544920" cy="1320840"/>
          </a:xfrm>
        </p:grpSpPr>
        <p:sp>
          <p:nvSpPr>
            <p:cNvPr id="1042" name="TextBox 16"/>
            <p:cNvSpPr/>
            <p:nvPr/>
          </p:nvSpPr>
          <p:spPr>
            <a:xfrm>
              <a:off x="5014440" y="494352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可以用半格代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表（　　）人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圆角矩形标注 17"/>
            <p:cNvSpPr/>
            <p:nvPr/>
          </p:nvSpPr>
          <p:spPr>
            <a:xfrm>
              <a:off x="5000760" y="4857840"/>
              <a:ext cx="2143080" cy="1071360"/>
            </a:xfrm>
            <a:prstGeom prst="wedgeRoundRectCallout">
              <a:avLst>
                <a:gd name="adj1" fmla="val 59050"/>
                <a:gd name="adj2" fmla="val 24587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图片 18" descr="E:\2017秋上·黄倩\其他\人\蜜蜂.gif蜜蜂"/>
            <p:cNvPicPr/>
            <p:nvPr/>
          </p:nvPicPr>
          <p:blipFill>
            <a:blip r:embed="rId1"/>
            <a:stretch/>
          </p:blipFill>
          <p:spPr>
            <a:xfrm>
              <a:off x="7509240" y="5035680"/>
              <a:ext cx="103644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TextBox 3"/>
            <p:cNvSpPr/>
            <p:nvPr/>
          </p:nvSpPr>
          <p:spPr>
            <a:xfrm>
              <a:off x="5785920" y="5324400"/>
              <a:ext cx="499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１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1"/>
          <p:cNvSpPr/>
          <p:nvPr/>
        </p:nvSpPr>
        <p:spPr>
          <a:xfrm>
            <a:off x="838080" y="3767040"/>
            <a:ext cx="6039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根据例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的数据和上面的记录单填写下表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7" name=""/>
          <p:cNvGraphicFramePr/>
          <p:nvPr/>
        </p:nvGraphicFramePr>
        <p:xfrm>
          <a:off x="914400" y="4511520"/>
          <a:ext cx="7113600" cy="1692360"/>
        </p:xfrm>
        <a:graphic>
          <a:graphicData uri="http://schemas.openxmlformats.org/drawingml/2006/table">
            <a:tbl>
              <a:tblPr/>
              <a:tblGrid>
                <a:gridCol w="1422360"/>
                <a:gridCol w="1424160"/>
                <a:gridCol w="1422360"/>
                <a:gridCol w="1422360"/>
                <a:gridCol w="142236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多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ambria"/>
                          <a:ea typeface="黑体"/>
                        </a:rPr>
                        <a:t>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8" name="Text Box 31"/>
          <p:cNvSpPr/>
          <p:nvPr/>
        </p:nvSpPr>
        <p:spPr>
          <a:xfrm>
            <a:off x="2751120" y="523080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Picture 71" descr="105"/>
          <p:cNvPicPr/>
          <p:nvPr/>
        </p:nvPicPr>
        <p:blipFill>
          <a:blip r:embed="rId1"/>
          <a:stretch/>
        </p:blipFill>
        <p:spPr>
          <a:xfrm>
            <a:off x="905040" y="1339920"/>
            <a:ext cx="3636720" cy="2308320"/>
          </a:xfrm>
          <a:prstGeom prst="rect">
            <a:avLst/>
          </a:prstGeom>
          <a:ln w="0">
            <a:noFill/>
          </a:ln>
        </p:spPr>
      </p:pic>
      <p:sp>
        <p:nvSpPr>
          <p:cNvPr id="1050" name="TextBox 9"/>
          <p:cNvSpPr/>
          <p:nvPr/>
        </p:nvSpPr>
        <p:spPr>
          <a:xfrm>
            <a:off x="1720440" y="4603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直接连接符 11"/>
          <p:cNvSpPr/>
          <p:nvPr/>
        </p:nvSpPr>
        <p:spPr>
          <a:xfrm>
            <a:off x="923760" y="4822920"/>
            <a:ext cx="1409760" cy="323640"/>
          </a:xfrm>
          <a:prstGeom prst="line">
            <a:avLst/>
          </a:prstGeom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直接连接符 74"/>
          <p:cNvSpPr/>
          <p:nvPr/>
        </p:nvSpPr>
        <p:spPr>
          <a:xfrm>
            <a:off x="1300320" y="4511520"/>
            <a:ext cx="1023840" cy="635040"/>
          </a:xfrm>
          <a:prstGeom prst="line">
            <a:avLst/>
          </a:prstGeom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76"/>
          <p:cNvSpPr/>
          <p:nvPr/>
        </p:nvSpPr>
        <p:spPr>
          <a:xfrm>
            <a:off x="1015560" y="45925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77"/>
          <p:cNvSpPr/>
          <p:nvPr/>
        </p:nvSpPr>
        <p:spPr>
          <a:xfrm>
            <a:off x="939240" y="4913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月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31"/>
          <p:cNvSpPr/>
          <p:nvPr/>
        </p:nvSpPr>
        <p:spPr>
          <a:xfrm>
            <a:off x="4173480" y="523080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31"/>
          <p:cNvSpPr/>
          <p:nvPr/>
        </p:nvSpPr>
        <p:spPr>
          <a:xfrm>
            <a:off x="5595840" y="523080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31"/>
          <p:cNvSpPr/>
          <p:nvPr/>
        </p:nvSpPr>
        <p:spPr>
          <a:xfrm>
            <a:off x="7018200" y="523080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31"/>
          <p:cNvSpPr/>
          <p:nvPr/>
        </p:nvSpPr>
        <p:spPr>
          <a:xfrm>
            <a:off x="2751120" y="576432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 Box 31"/>
          <p:cNvSpPr/>
          <p:nvPr/>
        </p:nvSpPr>
        <p:spPr>
          <a:xfrm>
            <a:off x="4173480" y="576432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1"/>
          <p:cNvSpPr/>
          <p:nvPr/>
        </p:nvSpPr>
        <p:spPr>
          <a:xfrm>
            <a:off x="5595840" y="5764320"/>
            <a:ext cx="62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1"/>
          <p:cNvSpPr/>
          <p:nvPr/>
        </p:nvSpPr>
        <p:spPr>
          <a:xfrm>
            <a:off x="7018200" y="57643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  <a:ea typeface="黑体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Group 46"/>
          <p:cNvGrpSpPr/>
          <p:nvPr/>
        </p:nvGrpSpPr>
        <p:grpSpPr>
          <a:xfrm>
            <a:off x="4645080" y="1197000"/>
            <a:ext cx="4390560" cy="1425240"/>
            <a:chOff x="4645080" y="1197000"/>
            <a:chExt cx="4390560" cy="1425240"/>
          </a:xfrm>
        </p:grpSpPr>
        <p:pic>
          <p:nvPicPr>
            <p:cNvPr id="1063" name="Picture 47" descr="0"/>
            <p:cNvPicPr/>
            <p:nvPr/>
          </p:nvPicPr>
          <p:blipFill>
            <a:blip r:embed="rId2"/>
            <a:stretch/>
          </p:blipFill>
          <p:spPr>
            <a:xfrm>
              <a:off x="7884360" y="1412640"/>
              <a:ext cx="1151280" cy="120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Text Box 48"/>
            <p:cNvSpPr/>
            <p:nvPr/>
          </p:nvSpPr>
          <p:spPr>
            <a:xfrm>
              <a:off x="4881600" y="1197000"/>
              <a:ext cx="2724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这是北京市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012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年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9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月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的天气情况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AutoShape 49"/>
            <p:cNvSpPr/>
            <p:nvPr/>
          </p:nvSpPr>
          <p:spPr>
            <a:xfrm>
              <a:off x="4645080" y="1197000"/>
              <a:ext cx="3167640" cy="864720"/>
            </a:xfrm>
            <a:prstGeom prst="wedgeRoundRectCallout">
              <a:avLst>
                <a:gd name="adj1" fmla="val 56550"/>
                <a:gd name="adj2" fmla="val 44046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6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6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0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2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3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4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5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6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77" name="Rectangle 64"/>
          <p:cNvSpPr/>
          <p:nvPr/>
        </p:nvSpPr>
        <p:spPr>
          <a:xfrm>
            <a:off x="530280" y="220680"/>
            <a:ext cx="2525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3638520" y="620640"/>
            <a:ext cx="336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把上面的数据在下面分别用条形图表示出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3" descr="99"/>
          <p:cNvPicPr/>
          <p:nvPr/>
        </p:nvPicPr>
        <p:blipFill>
          <a:blip r:embed="rId1"/>
          <a:stretch/>
        </p:blipFill>
        <p:spPr>
          <a:xfrm>
            <a:off x="906480" y="1052640"/>
            <a:ext cx="7508880" cy="2665440"/>
          </a:xfrm>
          <a:prstGeom prst="rect">
            <a:avLst/>
          </a:prstGeom>
          <a:ln w="0">
            <a:noFill/>
          </a:ln>
        </p:spPr>
      </p:pic>
      <p:grpSp>
        <p:nvGrpSpPr>
          <p:cNvPr id="1080" name="Group 4"/>
          <p:cNvGrpSpPr/>
          <p:nvPr/>
        </p:nvGrpSpPr>
        <p:grpSpPr>
          <a:xfrm>
            <a:off x="1433160" y="2506680"/>
            <a:ext cx="2201400" cy="1010880"/>
            <a:chOff x="1433160" y="2506680"/>
            <a:chExt cx="2201400" cy="1010880"/>
          </a:xfrm>
        </p:grpSpPr>
        <p:sp>
          <p:nvSpPr>
            <p:cNvPr id="1081" name="Rectangle 5"/>
            <p:cNvSpPr/>
            <p:nvPr/>
          </p:nvSpPr>
          <p:spPr>
            <a:xfrm flipH="1" flipV="1">
              <a:off x="1432800" y="2506680"/>
              <a:ext cx="312840" cy="100728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6"/>
            <p:cNvSpPr/>
            <p:nvPr/>
          </p:nvSpPr>
          <p:spPr>
            <a:xfrm flipH="1" flipV="1">
              <a:off x="2067840" y="2833200"/>
              <a:ext cx="312840" cy="68364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7"/>
            <p:cNvSpPr/>
            <p:nvPr/>
          </p:nvSpPr>
          <p:spPr>
            <a:xfrm flipH="1" flipV="1">
              <a:off x="2684880" y="2508480"/>
              <a:ext cx="312840" cy="100728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8"/>
            <p:cNvSpPr/>
            <p:nvPr/>
          </p:nvSpPr>
          <p:spPr>
            <a:xfrm flipH="1" flipV="1">
              <a:off x="3321360" y="2725560"/>
              <a:ext cx="312840" cy="79164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9"/>
          <p:cNvGrpSpPr/>
          <p:nvPr/>
        </p:nvGrpSpPr>
        <p:grpSpPr>
          <a:xfrm>
            <a:off x="5659200" y="1477440"/>
            <a:ext cx="2201400" cy="2046960"/>
            <a:chOff x="5659200" y="1477440"/>
            <a:chExt cx="2201400" cy="2046960"/>
          </a:xfrm>
        </p:grpSpPr>
        <p:sp>
          <p:nvSpPr>
            <p:cNvPr id="1086" name="Rectangle 10"/>
            <p:cNvSpPr/>
            <p:nvPr/>
          </p:nvSpPr>
          <p:spPr>
            <a:xfrm flipH="1" flipV="1">
              <a:off x="5658840" y="1477080"/>
              <a:ext cx="312840" cy="204300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"/>
            <p:cNvSpPr/>
            <p:nvPr/>
          </p:nvSpPr>
          <p:spPr>
            <a:xfrm flipH="1" flipV="1">
              <a:off x="6293880" y="3062160"/>
              <a:ext cx="312840" cy="46224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"/>
            <p:cNvSpPr/>
            <p:nvPr/>
          </p:nvSpPr>
          <p:spPr>
            <a:xfrm flipH="1" flipV="1">
              <a:off x="6915600" y="3199320"/>
              <a:ext cx="312840" cy="32364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3"/>
            <p:cNvSpPr/>
            <p:nvPr/>
          </p:nvSpPr>
          <p:spPr>
            <a:xfrm flipH="1" flipV="1">
              <a:off x="7547400" y="2963880"/>
              <a:ext cx="312840" cy="557640"/>
            </a:xfrm>
            <a:prstGeom prst="rect">
              <a:avLst/>
            </a:prstGeom>
            <a:solidFill>
              <a:srgbClr val="ff422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0" name="Text Box 14"/>
          <p:cNvSpPr/>
          <p:nvPr/>
        </p:nvSpPr>
        <p:spPr>
          <a:xfrm>
            <a:off x="150840" y="3724200"/>
            <a:ext cx="967896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比较，天气有什么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北京正式进入秋季，你认为北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的天气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3"/>
          <p:cNvSpPr/>
          <p:nvPr/>
        </p:nvSpPr>
        <p:spPr>
          <a:xfrm>
            <a:off x="281160" y="4270320"/>
            <a:ext cx="500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９月的晴天天数明显多于８月，９月阴天、雨天天数都少于８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"/>
          <p:cNvSpPr/>
          <p:nvPr/>
        </p:nvSpPr>
        <p:spPr>
          <a:xfrm>
            <a:off x="285840" y="5477040"/>
            <a:ext cx="81882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９月北京已正式进入秋季，天气以晴天为主，降雨明显减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4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5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96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7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8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9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0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1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2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3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4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32"/>
          <p:cNvSpPr/>
          <p:nvPr/>
        </p:nvSpPr>
        <p:spPr>
          <a:xfrm>
            <a:off x="425520" y="1933560"/>
            <a:ext cx="84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条形统计图表示数据时，如果数据比较大，可以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格表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个数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10:13Z</dcterms:created>
  <dc:creator/>
  <dc:description/>
  <dc:language>en-US</dc:language>
  <cp:lastModifiedBy>万润仪器贸易公司</cp:lastModifiedBy>
  <dcterms:modified xsi:type="dcterms:W3CDTF">2020-08-21T09:01:13Z</dcterms:modified>
  <cp:revision>2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